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D2DD-0844-4155-BAF6-B3A640BF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D932-762E-4D74-8FFC-E3A789B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BD12-04CE-48BF-819A-9617D48B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5170-2BE9-4B05-B4B0-2BB0FFCF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0EC3-0FEF-4995-9984-8CB5C506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1D99-7098-4EBE-A80E-20C2C59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446E-8278-4594-8ADB-70057D82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3D8-2A4C-4B45-82D1-DA54EE9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2AD5-00E5-43AB-92C1-8BC764FE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823-27EA-4FFE-86CA-B9C1651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C2B6-9A30-42FB-920B-10BB58F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CF23-BB23-48A9-9AE4-CF3B210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C730-2D24-457E-AA5E-1B24909B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B757-2BA5-43A3-BDC2-A83509F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5EF-7388-4114-A5C6-93EC881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DA4-13F1-46A8-86A2-4F33FF2F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5E7F-6D98-4AB9-AE81-0F34F456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EA8-476D-4BA8-BAE1-FE6BAB47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A27F-8547-4D50-BC53-CDFDECE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7FF6-7AC9-430B-9CBD-6649299E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148D-97E8-4F2D-B5AA-B62550F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24E7-FD5E-4992-86E6-88E7F03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FE66-81D4-4BC2-8385-EED3D274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B7D0-CF85-4656-A91B-58A7832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A44-C8D8-4D4D-9942-CACF40D34D1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C4A-1073-4431-9B73-1572C83968C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15680"/>
            <a:ext cx="111315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25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(Пр.362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аз нежна струна, този гла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ще се пречупи някой час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но Бог приготвил е за ме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ом вечен, неръкотворен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моя Спас лице с лиц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ледам с възхи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: „Колко съм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речудна благодат спасен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й тяло Той ще облеч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слава и ще ми реч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ез, чадо, в Моя вечен м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Мене на небесен пир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моя Спас лице с лиц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ледам с възхи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: „Колко съм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речудна благодат спасен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чакам тук до онзи 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ъс светилник украс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тов, кога ме вземе Т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ляза в славния покой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моя Спас лице с лиц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ледам с възхи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: „Колко съм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пречудна благодат спасен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6-23T07:53:36Z</dcterms:modified>
  <cp:revision>47</cp:revision>
  <dc:subject/>
  <dc:title>Slide 1</dc:title>
</cp:coreProperties>
</file>